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BF3-C21A-49EE-8101-8A50743A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2F2-2CF0-4CF9-B227-FA9279EB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A5B-0E33-44D6-818A-2840376E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995-6AAA-42F1-8D30-CDDC6736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36D-8B0E-42BC-8E3B-E6F3FEB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D62-5E1F-4F40-BBD9-A697A34B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802-4F14-49C0-93D4-7C08EFF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567-ABE3-4E32-9E4C-14741F6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3D2-9C4B-41C3-8F88-CB5802B3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1A8-33B3-4BF1-8F8D-2190A6A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327-EFBA-42D0-B43E-9712AEA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0B3-9FE1-47F0-ADE5-C6E92351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379-8B04-4450-834C-978CC870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48040" y="1719360"/>
            <a:ext cx="3247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7280" y="1600200"/>
            <a:ext cx="33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 F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3960" y="1600200"/>
            <a:ext cx="589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Winston Churc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62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 Benito Mussoli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68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Tru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816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5:30:43Z</dcterms:created>
  <dc:creator>Technology</dc:creator>
  <dc:description/>
  <dc:language>en-US</dc:language>
  <cp:lastModifiedBy>Technology</cp:lastModifiedBy>
  <dcterms:modified xsi:type="dcterms:W3CDTF">2010-02-17T15:31:02Z</dcterms:modified>
  <cp:revision>1</cp:revision>
  <dc:subject/>
  <dc:title>Slide 1</dc:title>
</cp:coreProperties>
</file>